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694-2C3F-4E05-AE93-2AE2FF76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7C4-F2BB-4A68-9561-126BDF9C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2F7-FB27-4E89-9C1D-4350E08E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769-9A62-4BB4-AE04-F9654666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8E15-11BF-47F1-A4DB-72DB7990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CDE4-0D26-43AA-A769-E435DE77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3FAD-C7B8-469D-8D1A-331E9A1D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74BD-F3FB-410A-923A-40DABB90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B768-0544-44CC-AC27-9ABE03AC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9440-6145-4818-B94E-D2779B01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464-39A8-4BDA-ADAD-7ACC269E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200-7A9F-4E8D-AA50-D05996FC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7EB0-E02E-409E-8F3E-0390EE1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639C-6D59-4596-95B1-D86FDD96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FD70-1E9C-42C3-8B20-F07B7316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9D51-CC85-4000-A13B-0E989C0D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C261-3989-4539-9A4A-A1F08456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72D-2954-4C02-86B3-DE346BB7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83A-956A-442B-B3FD-2FA2B0FF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4D9-059D-426C-B810-BC5CA425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F8B-EAA7-4CC0-9D5C-61AE156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74E-C7E5-4FBF-A7C1-3CD81A3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4B3-9FE9-43A6-BFF8-522ACC2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3B1-B7CC-4D17-A72C-8C363EE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D240-D152-43AD-9478-FEF266B86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8E5-970E-4581-B40B-CCADA24B6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669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Tahoma"/>
              </a:rPr>
              <a:t>Создание оптимальных </a:t>
            </a:r>
            <a:br>
              <a:rPr sz="4800"/>
            </a:br>
            <a:r>
              <a:rPr b="0" lang="en-US" sz="4800" spc="-1" strike="noStrike">
                <a:solidFill>
                  <a:srgbClr val="cc66ff"/>
                </a:solidFill>
                <a:latin typeface="Tahoma"/>
              </a:rPr>
              <a:t>условий для жизни зверей в уголках природы доу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Выполнила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студент 636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Касева Евдок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367" t="0" r="0" b="-51"/>
          <a:stretch/>
        </p:blipFill>
        <p:spPr>
          <a:xfrm rot="1329000">
            <a:off x="6443280" y="549360"/>
            <a:ext cx="2300400" cy="1917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352800">
            <a:off x="388440" y="443520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75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Здоровье мыш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2952720" cy="3744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518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доровое питание, чистая кл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активный образ жизни необходимы для вашего зверька. Давайте  мышке что-нибудь твердое, чтобы грызть: косточки, или твердые собачьи « сухарики» необходимы для ее зубов. Ваша мышь должна быть упитанной ,но не толстой, с блестящими глазами и чистой шкуркой. Животное должно двигаться свободно. Если мышь забивается в угол или движется не уверенно, скорее всего, она боль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380880"/>
            <a:ext cx="6985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Tahoma"/>
              </a:rPr>
              <a:t>Обустроим дом для крыс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летка должна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Хорошо проветриваемой и двухэтажной с лестницей по серед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Рекомендуемый размер – не менее 7</a:t>
            </a: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0*40*40</a:t>
            </a: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 сантиметров, а в самой клетке должно быть достаточно ме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Шаг сетки не более 1.5 сантиметров, чтобы не дать маленьким крысам убеж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Уход за крысой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63086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129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561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Здоровье крыс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Чтобы крыса оставалась здоровой, ей нужно сбалансированное питание, чистая клетка и чистая подстил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Регулярный осмотр ,особенно уши, глаза, зуб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Осмотр на предмет опухо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Зу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Хром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6247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Tahoma"/>
              </a:rPr>
              <a:t>Клетка для кролик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8352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9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Tahoma"/>
              </a:rPr>
              <a:t>Уход за кроликам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8280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2349360"/>
            <a:ext cx="83739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Спасибо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 за внимание !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6553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Клетки для морских свинок и их оборудование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Дерев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клетки разных разме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Пол гладким, без щеле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защищен от сквозняков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Плотно приставлен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домик для сна и отдых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Поставить кормушки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сухого и влажного кор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и поил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Устанавливать клетку прям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на полу не следует чтобы избеж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проникновения сырости и скопления грязи сниз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410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04836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Уход за морскими свинкам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ежедневная тщательная убор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уборка корма, обновление               подстилок, замена слоя опил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обмывание кормушек и поил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Через каждые две неде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генеральная чистка всех клеток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В два раза в год обрабатывание клетки вместе с предметами и их оборудованием хлорной известью или 5% - ным раствором креолин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741600">
            <a:off x="6084360" y="1130040"/>
            <a:ext cx="28609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4751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Здоровье морской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свин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Чтобы морские свинки н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заболели ,надо соблюдать в уголке прир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санитарного режим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Чистота воздуха, определенная температу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Устранять сырость и сквозняки; Проводить ежедневную уборку клеток(замена подстилок, удаление остатков корм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1545600">
            <a:off x="6227280" y="404280"/>
            <a:ext cx="25052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518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ahoma"/>
              </a:rPr>
              <a:t>Хомячьи хоромы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Должен бы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большим, чистым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интересны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С множеством игрушек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колесо, лестница,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Дно засыпать стружко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для подстилки использ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сол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795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5759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Уход за хомячкам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Чистка и подготов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Подготовка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Еда и в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Игруш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7404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511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ahoma"/>
              </a:rPr>
              <a:t>Здоровье хомяч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Как и любое другое  животное, хомячок нуждается в наблюдении за его здоровьем. Если хомяк неправильно питается или не содержится в чистоте то он заболеет. Причиной болезни так же может стать грязная клетка. Чтобы отслеживать хомячка, необходимо ежедневно брать его на руки. Если вам кажется , что с ним что-то не так, не колеблясь, обратитесь к ветерина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443640" y="115920"/>
            <a:ext cx="2376360" cy="1922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4869000"/>
            <a:ext cx="1455840" cy="179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521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4896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Дом для вашей мыш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ррариу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полу лен или струж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сто для сна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бор правильного ме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894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52578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ход за мышкой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5184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Каждый де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сть свежий корм, предварительно убрав остатки старог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менить воду в поил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Раз в два–три дн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менить подстилку;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мыть горячей водой все кормушки и поил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менить веточки для стачивания зубов на свеж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38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9:28:29Z</dcterms:created>
  <dc:creator>ASUS_F80CR</dc:creator>
  <dc:description/>
  <dc:language>en-US</dc:language>
  <cp:lastModifiedBy>студент</cp:lastModifiedBy>
  <dcterms:modified xsi:type="dcterms:W3CDTF">2010-05-22T10:58:45Z</dcterms:modified>
  <cp:revision>7</cp:revision>
  <dc:subject/>
  <dc:title>Создание оптимальных условий для жизни зверей в уголках природы доу</dc:title>
</cp:coreProperties>
</file>